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17A13-790C-464C-8CAC-B0184B926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2F40D-9432-4FCF-A78D-546DC938C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BB9F6-0AAB-43D4-91E4-D133BA46EA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9430B-7E6C-4591-955C-A5A58D9CE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A62E8-CE3A-4E91-8AF3-5E4B5ED7F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5D770-3C65-44B1-88F7-24D381070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A379A-1A6B-4304-BB71-A6A823D60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B9996-6ECC-4F4A-9A84-680C21E5F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3B610-D8A6-4E82-9CBC-3B2AA28DE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D6665-FB3B-479C-B633-2ECD1A710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A7AF2-42CC-4B46-B9EE-5049A1976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246F4-737A-49BB-BD41-B72E9B25E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44462-7C84-45BE-82C0-F08BA10139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213372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pic>
        <p:nvPicPr>
          <p:cNvPr id="45" name="Picture 8" descr="comp_i"/>
          <p:cNvPicPr/>
          <p:nvPr/>
        </p:nvPicPr>
        <p:blipFill>
          <a:blip r:embed="rId1"/>
          <a:stretch/>
        </p:blipFill>
        <p:spPr>
          <a:xfrm>
            <a:off x="152280" y="3124080"/>
            <a:ext cx="3067200" cy="3067200"/>
          </a:xfrm>
          <a:prstGeom prst="rect">
            <a:avLst/>
          </a:prstGeom>
          <a:ln w="0">
            <a:noFill/>
          </a:ln>
        </p:spPr>
      </p:pic>
    </p:spTree>
  </p:cSld>
  <p:transition spd="slow" advTm="5000">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8" name="Picture 8" descr="comp_i"/>
          <p:cNvPicPr/>
          <p:nvPr/>
        </p:nvPicPr>
        <p:blipFill>
          <a:blip r:embed="rId1"/>
          <a:stretch/>
        </p:blipFill>
        <p:spPr>
          <a:xfrm>
            <a:off x="5715000" y="1600200"/>
            <a:ext cx="3067200" cy="3067200"/>
          </a:xfrm>
          <a:prstGeom prst="rect">
            <a:avLst/>
          </a:prstGeom>
          <a:ln w="0">
            <a:noFill/>
          </a:ln>
        </p:spPr>
      </p:pic>
    </p:spTree>
  </p:cSld>
  <p:transition spd="slow" advTm="5000">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50" name="Text Box 7"/>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zentăm mai jos câteva exemple de itemi din unele teste de inteligenţă.</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re este numărul care lipseşte din al treilea şir </a:t>
            </a:r>
            <a:r>
              <a:rPr b="0" lang="en-GB" sz="1200" spc="-1" strike="noStrike">
                <a:solidFill>
                  <a:srgbClr val="000000"/>
                </a:solidFill>
                <a:latin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p:transition spd="slow" advTm="5000">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s11b2</cp:lastModifiedBy>
  <dcterms:modified xsi:type="dcterms:W3CDTF">2012-06-18T11:00:37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